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44EDA-0034-4007-A8D6-9ECDA1940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AF2B5-E6E0-4B9D-A457-4DFAA0BFE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0492E-5BC5-46A7-8C9C-8C998BFB1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98A2A-07D6-4E6D-83FD-389F518FD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79FDD-D093-4303-BF1F-96877785B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903FE-7A3A-40B6-9FD0-57189418C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CAC2E-CA78-4B52-AFC5-837D2CA46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34467-3B99-49DB-8801-9D7CE2468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3F8C0-ACC0-4004-BB25-92A8DDD5E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0FF72-4BF4-4EA2-8A15-CD0E53CA8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30067-5B26-482B-A7D3-A54D182A3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E9B85-9573-4D9C-B5A1-1A0E3017E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7617F-957A-4057-AD3C-CAEF5A6A5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131ED-E3B8-4A3D-B1CA-6F3DFA09A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76500-060A-4789-8A90-CD0DDFE17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FB280-83AB-4F20-918A-9B2D5D6D8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88038-C16D-4FB3-8711-4BC7EAF64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4BD65-6150-4F83-80F5-784C789E4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2095A-F941-4FF6-AD8D-1035AD5A1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8C70D-BD81-434C-B296-BB87B24B1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5DCD0-1AC0-49CE-8D4D-3CDDBD7DE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4A794-CB54-42C0-8E1D-F9DB01E3A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540D-741D-45F1-94E8-EC75EFB53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AD464-20E8-441F-BE4C-FF6F29998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9C98-3230-482C-84D2-CC1ADD743EA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5F1E-01B6-4671-9278-EBAAB0E72F35}"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resentación anteproyecto</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an Carlos Gutiérrez Martínez.</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dad Tecnológica de Pereir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il 23 de 2009.</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1. TITULO</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Manual para el proceso de implementación de algoritmos en una arquitectura de computación reconfigurable sobre la plataforma RASC de SGI.</a:t>
            </a:r>
            <a:endParaRPr b="0" lang="en-US" sz="3000" spc="-1" strike="noStrike">
              <a:solidFill>
                <a:srgbClr val="000000"/>
              </a:solidFill>
              <a:latin typeface="Arial"/>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2. FORMULACIÓN DEL PROBLEMA</a:t>
            </a:r>
            <a:endParaRPr b="0" lang="en-US" sz="3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n el laboratorio SIRIUS de Computación de alto desempeño de la Universidad Tecnológica de Pereira, SIRIUS HPC,  se cuenta  con un sistema de computación reconfigurable RASC, sobre un supercomputador ALTIX 350 de SGI en donde se realizan aceleraciones de algoritmos usando dispositivos de lógica programable FPGA</a:t>
            </a:r>
            <a:r>
              <a:rPr b="0" lang="es-CO"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l problema que encuentran los interesados en implementar un algoritmo en la tecnología RASC de SGI, es que no hay cursos programados para el entrenamiento, ni documentación específica disponible en el laboratorio Sirius HPC.</a:t>
            </a:r>
            <a:endParaRPr b="0" lang="en-US" sz="2000" spc="-1" strike="noStrike">
              <a:solidFill>
                <a:srgbClr val="000000"/>
              </a:solidFill>
              <a:latin typeface="Arial"/>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JUSTIFICACIÓN</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xistiendo este recurso (sistema de computación reconfigurable RASC) y una comunidad que debe tener acceso a su uso, y no contándose con una materia dentro del pensum de las carreras de la facultad de ingenierías, existe la necesidad de multiplicar el uso de esta tecnologí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logra, con el manual, la independencia del talento humano, del laboratorio SIRIUS HPC,  que cuenta en la actualidad con el conocimiento para la implementación de algoritmos, además de contar con información unificada y estandarizada en el momento del entrenamiento inicial de las personas interesadas en hacer uso de la supercomputado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JUSTIFICACIÓN</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Mayor cantidad de estudiantes e investigadores pueden contar con el conocimiento para la implementación de algoritmos en la supercomputadora Altix 350, aumentando la transferencia de información y el acceso al mism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El costo de este supercomputador está alrededor de los U$65.000 dólares, todo trabajo relacionado con la supercomputadora Altix 350 que permita incrementar el uso de este recurso hace que la inversión sea mejor aprovechada.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on este proyecto se aplica el conocimiento adquirido por el investigador durante la carrera de Ingeniería de sistemas y computación, en las áreas de programación, electrónica, sistemas operativos y arquitectura de computadore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4. OBJETIVOS</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4.1 GENER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uperar las limitaciones de utilización actuales del sistema de computación reconfigurable SGI ALTIX 350, generados por la falta de un manual que describa el proceso para la implementación de algoritm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4. OBJETIVOS</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900" spc="-1" strike="noStrike">
                <a:solidFill>
                  <a:srgbClr val="000000"/>
                </a:solidFill>
                <a:latin typeface="Arial"/>
              </a:rPr>
              <a:t>4.1 ESPECÍFICOS</a:t>
            </a:r>
            <a:endParaRPr b="0" lang="en-US" sz="19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Recopilar la información básica requerida para la implantación de hardwa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Documentar el proceso de creación de un algoritmo en hardwa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Identificar la integración de hardware en la plataforma RASC del Altix 350 de SG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resentar la integración del hardware en la plataforma RASC del Altix 350 de SG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lantear casos de estudio para el manua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Integrar toda la información en un manua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5. TEMAS GRUESOS DEL MANUAL</a:t>
            </a: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1. Computación reconfigurable (RC).</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2. Dispositivos lógicos programables (FPGA´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3. Sistemas de computación reconfigurable (RC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4. Lenguajes y compilación en computación reconfigurable (C, VHDL)</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5. Core Services (C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6. Librería RASC</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7. Caso éxito </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2000" spc="-1" strike="noStrike">
                <a:solidFill>
                  <a:srgbClr val="000000"/>
                </a:solidFill>
                <a:latin typeface="Arial"/>
              </a:rPr>
              <a:t>7.1 Interface con core servic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2000" spc="-1" strike="noStrike">
                <a:solidFill>
                  <a:srgbClr val="000000"/>
                </a:solidFill>
                <a:latin typeface="Arial"/>
              </a:rPr>
              <a:t>7.2 Función en “CS” que envían y reciben datos desde y hacia el hardware</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2000" spc="-1" strike="noStrike">
                <a:solidFill>
                  <a:srgbClr val="000000"/>
                </a:solidFill>
                <a:latin typeface="Arial"/>
              </a:rPr>
              <a:t>7.3 Evaluación de desempeño </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Gracias</a:t>
            </a:r>
            <a:endParaRPr b="0" lang="en-US" sz="5000" spc="-1" strike="noStrike">
              <a:solidFill>
                <a:srgbClr val="006633"/>
              </a:solidFill>
              <a:latin typeface="Garamond"/>
            </a:endParaRPr>
          </a:p>
        </p:txBody>
      </p:sp>
      <p:sp>
        <p:nvSpPr>
          <p:cNvPr id="10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an Carlos Gutiérrez Martínez.</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dad Tecnológica de Pereir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il 23 de 2009.</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uario</cp:lastModifiedBy>
  <dcterms:modified xsi:type="dcterms:W3CDTF">2009-04-23T18:10:0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